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1B8-D9AA-41D1-86EB-ADA1AD8B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E33-FC8F-451B-B3E4-C23AC005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DAF-8859-4C19-8D06-0A880172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853-C75F-40D8-92A2-3777CE6A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3DA-DC4C-442F-A5BC-31FCD003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9401-B268-47AA-8C07-8A7C32D9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B46B-0343-4EB1-BA74-6B15C045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A14E-1A34-4913-A750-B73D30B1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33E-A96F-4E40-A284-6CBDE245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FF97-57E5-41CD-A787-41AD2A08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BC81-8AFA-4E07-AECB-1C79E74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49D-A938-42E5-AB31-510142B7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5174-2A3B-465D-9E5F-209E5E4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628-8ADF-42B8-A282-BE76C29E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75AA-6B76-4FFE-9D88-9AA4703A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0D69-5238-4AE9-BFAA-96DA1F4F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E23-B3A4-43FC-888E-369C3533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658-6F97-4C72-B846-EE846645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EEE-A53B-44DF-BEEC-E6F21C2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F88-F218-4395-B2D6-0A5914E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D21-748B-477E-AEDF-D308579F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7A7-0D26-4233-8CB4-D4AE8B3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559-7B0C-4C50-B827-5C9C145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50F-CF1D-45AD-B13E-521B6A52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9C7-48B5-4504-8F95-305B8D6A773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49D-54A7-4FEE-9D82-916A22446AE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5 Themes of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erdana"/>
              </a:rPr>
              <a:t>Period 4 Group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ultur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reol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olonialis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Econom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The average annual growth % GDP per capita ranges from the Bahamas with -0.1 to Guyana with 5.2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The total GNI goes from low as St. Vincent and the Grenadines with 301 to high as the Dominican Republic with 16,130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Referred to as the “American Backyard”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Developing region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5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Verdana"/>
              </a:rPr>
              <a:t>60% of the Caribbean is urban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/Environment Inte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han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Use deforestation for family ranching and building building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lear hillsides for far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oastal mangrove swamps for beach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Irrigation is used to bring water to dried lan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/Environment Inte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Adap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Countries in the Caribbean built cruise ships, cruise lines, and tourist sectors to attract tourists to the Caribbean and help countries in the Caribbean make a profit. (Tourism represents half the country’s GDP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Residents in the Caribbean build their houses on the silts as protection against flood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There is little sources for energy so some people have to use firewood and charcoal as their energy need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The production of sugarcane has become an easy way for farmers to make a large profi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Since the climate is so hot, people use air conditioner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Growth of coff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uman/Environment Inter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Jamaica, Caribbean: Sugar cane, still one of the island's biggest exports—and the foundation of Jamaican rum"/>
          <p:cNvPicPr/>
          <p:nvPr/>
        </p:nvPicPr>
        <p:blipFill>
          <a:blip r:embed="rId1"/>
          <a:stretch/>
        </p:blipFill>
        <p:spPr>
          <a:xfrm>
            <a:off x="533520" y="1752480"/>
            <a:ext cx="361944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72428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Verdana"/>
              </a:rPr>
              <a:t>Sugar cane field in Jamaic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erdana"/>
              </a:rPr>
              <a:t>Relativ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outheast of Gulf of Mexico, east of Central America, and north of South Ameri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erdana"/>
              </a:rPr>
              <a:t>Exa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18.15 N, 63.10 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hysi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Lies between Tropic of Cancer and the Equator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The region is divided into the Rimland, greater Antilles, and lesser Antilles.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Warm temperatures (70’s year-round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Hurricanes (storms with heavy rains and winds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Abundant rainfall (more than 80 inches which determines season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Diverse flora and fauna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Vegetation (forests, savannas, mangroves, and arid zones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29"/>
                </a:solidFill>
                <a:latin typeface="Verdana"/>
              </a:rPr>
              <a:t>Isolated proximity – Caribbean’s unusual position in world (limits economic opportunity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Hum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Maroon communities of runaway slav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Compromised of descendants of Africa, Asia, and Europ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Plantation America-cultural region where European elite rule and depend on African labor for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Large Asian pop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Africans were forced from their native lands and sent to the America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African religions like voodoo are widely practic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Complex culture caused by creoliz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Speak French, Dutch, Spanish, and Englis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Railroad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Ports for boats to come and g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Verdana"/>
              </a:rPr>
              <a:t>Arable lands are owned by elite with small plots for subsistence argricul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eop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Asian immig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Slave tra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Runaway sla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Maroon societ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Densely settled island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Lightly populated main land territor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Rural urban continuu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Migration chai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Migration circul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Labor-related mig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Touris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08560" indent="-3999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Verdana"/>
              </a:rPr>
              <a:t>Diaspora Caribbea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Expor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Railroa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Por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Id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Langu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Mus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reol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Plantation Amer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Asian immig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Neo Afr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olon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hysi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25 countries and dependent territor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Groups of islands (archipelag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Tropical beaches – white sand beaches surround the islan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Some islands are mostly made up of volcano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Some countries contain limestone plateaus and mountains. Some were formed by ancient rock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Politi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A lot of small islands are claimed by other countries like England, Spain, and Franc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Cuba is a communist countr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Puerto Rico is divided about their future politics – half Caribbean and half U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Verdana"/>
              </a:rPr>
              <a:t>Many countries and territories are free and independent, but many struggle to fit the citizen nee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48:22Z</dcterms:created>
  <dc:creator>NPSD</dc:creator>
  <dc:description/>
  <dc:language>en-US</dc:language>
  <cp:lastModifiedBy>NPSD</cp:lastModifiedBy>
  <dcterms:modified xsi:type="dcterms:W3CDTF">2009-12-18T15:53:45Z</dcterms:modified>
  <cp:revision>11</cp:revision>
  <dc:subject/>
  <dc:title>5 Themes of Geography</dc:title>
</cp:coreProperties>
</file>